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97BC4F7-02D5-4778-A7B8-1BF6CC7EE89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0CC3AC02-CD7C-4A33-ADD5-1C0EE205C88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506B056-EF22-4C98-AB87-85CB4107A3A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E6059C1-9770-4C45-A432-D966A6E9241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F33AFE9-6396-410D-8022-12A344D87AD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CC18265-0AD3-4A7A-A15A-26778E35784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84B9104-83A9-407B-8881-B0D58B7FC48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0F36006-6CCD-4187-BE3E-4D93F02A8E4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9FA34D8-55F4-439F-AD5C-C4EEDED5833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103852A-4348-4239-B176-BF3754249A2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207809F0-1E0A-478D-8E12-6D8731F14F2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0C1C5E7-D3AD-4D57-9AA1-3EC0EC8A3F5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88848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3: Defect Analysis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requirements for report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R3 defect analysis spread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R3 defect data to estimate defect density and defect fix ti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7011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360" y="1450800"/>
            <a:ext cx="7677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the defect analysis report are to help you understand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and types of defects introduced and found while developing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ance of carefully gathering, recording, and reporting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3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893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defects found in developing the initial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report that includes these t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ens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and test phase defect dens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defect fix time by phase injected and remo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formats are described in tables D20, D21, and D22 in Appendix D, pages 770-77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in tables D20-D22 to complete the exercise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paring Report R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14320" y="1450800"/>
            <a:ext cx="794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lines for preparing the defect analysis tables are in Appendix 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bles can be manually produced by following the task description in Appendix 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support for producing the R3 tables is available in the SEI PSP student workbook, R3 tab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in the R3 tables to complete the R3 exercise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523880" y="1498680"/>
            <a:ext cx="6235920" cy="4965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438120" y="1305000"/>
            <a:ext cx="1204920" cy="1109520"/>
          </a:xfrm>
          <a:prstGeom prst="rightArrow">
            <a:avLst>
              <a:gd name="adj1" fmla="val 75009"/>
              <a:gd name="adj2" fmla="val 19020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density tabl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AutoShape 5"/>
          <p:cNvSpPr/>
          <p:nvPr/>
        </p:nvSpPr>
        <p:spPr>
          <a:xfrm flipH="1">
            <a:off x="7655040" y="1298520"/>
            <a:ext cx="1355760" cy="1438200"/>
          </a:xfrm>
          <a:prstGeom prst="rightArrow">
            <a:avLst>
              <a:gd name="adj1" fmla="val 75009"/>
              <a:gd name="adj2" fmla="val 17514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ile and test defects tabl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AutoShape 6"/>
          <p:cNvSpPr/>
          <p:nvPr/>
        </p:nvSpPr>
        <p:spPr>
          <a:xfrm flipH="1">
            <a:off x="5685840" y="4543560"/>
            <a:ext cx="1657080" cy="780120"/>
          </a:xfrm>
          <a:prstGeom prst="rightArrow">
            <a:avLst>
              <a:gd name="adj1" fmla="val 75009"/>
              <a:gd name="adj2" fmla="val 37202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fix times tabl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2480" y="509400"/>
            <a:ext cx="7815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Defect Analysis Tab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3 Exercise Qu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4320" y="1450800"/>
            <a:ext cx="794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line TSP productivity data suggests that an engineer can produce up to 10,000 LOC per year.  Using the data from the R3 tab in your student workbook, determ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total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compiler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number of compile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fix time for defects found in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compile fix time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test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number of test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fix time for defects found in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 test fix time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1360" y="1450800"/>
            <a:ext cx="7677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report must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analysis tables D20-D2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d R3 exercise ques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8-30T17:49:38Z</cp:lastPrinted>
  <dcterms:modified xsi:type="dcterms:W3CDTF">2018-09-06T00:17:05Z</dcterms:modified>
  <cp:revision>64</cp:revision>
  <dc:subject/>
  <dc:title>No Slide Title</dc:title>
</cp:coreProperties>
</file>